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552-FB42-4EBD-B830-D144FCE7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94E-80EE-488B-8A9B-4C89362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3FD-09A9-4945-9A02-838BA1A9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2E7-59FB-4B5F-8D3F-2F10CD71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72D-5418-4345-85E1-7DF30722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321-6580-4797-B7FE-EDC56ADB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560-0CD9-4B25-BBAD-28DC8205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588-85C3-4343-88A0-21CF04A7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7E8-D314-4744-B993-7B52707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040-1BD7-4B16-89C8-A2C0FDA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A12-AB7C-4DA3-A279-90191F9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151-971F-4EDA-9BC1-A1E6D96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EDD-5565-45A8-9616-D153A120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o Now 10-1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 can define the meaning of unknown words and learn (being) verb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ll the following wor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19112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72388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pell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dd a suffix (that begins with a vowel like –ing or –ed) and the word ends in “e”, drop the “e” and add the suffi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971800"/>
            <a:ext cx="45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584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4280" y="2971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8680" y="29718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981080" cy="1433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840" y="40543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56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4760" y="3978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7280" y="40384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3480" y="496872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9528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9200" y="4952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5520" y="4876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988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25 0.00232 L -0.18125 0.00232 E">
                                      <p:cBhvr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82659E-007 L -0.21458 0.00231 E"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94 0.01341 L -0.20139 0.013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35 -0.02292 C 0.11372 -0.09051 0.09844 -0.15811 0.08803 -0.18843 C 0.07744 -0.21875 0.02379 -0.15186 0.06702 -0.20463 C 0.1106 -0.25741 0.28421 -0.52755 0.34827 -0.50579 C 0.41233 -0.48403 0.58594 -0.06482 0.45174 -0.07361 C 0.31754 -0.08241 -0.42083 -0.5713 -0.45694 -0.55857 C -0.49305 -0.54584 0.15817 -0.09074 0.23455 0.00231 C 0.31077 0.09537 0.03907 0.00046 8.33333E-006 3.7037E-006 E">
                                      <p:cBhvr>
                                        <p:cTn id="73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B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ING VERB LES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1:10:34Z</dcterms:created>
  <dc:creator>Administrator</dc:creator>
  <dc:description/>
  <dc:language>en-US</dc:language>
  <cp:lastModifiedBy>Administrator</cp:lastModifiedBy>
  <dcterms:modified xsi:type="dcterms:W3CDTF">2010-10-15T12:24:47Z</dcterms:modified>
  <cp:revision>12</cp:revision>
  <dc:subject/>
  <dc:title>Do Now 10-15 I can define the meaning of unknown words and sounds words out. </dc:title>
</cp:coreProperties>
</file>